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ct" ContentType="image/x-pict"/>
  <Override PartName="/ppt/media/image26.png" ContentType="image/png"/>
  <Override PartName="/ppt/media/image27.png" ContentType="image/png"/>
  <Override PartName="/ppt/media/image4.png" ContentType="image/png"/>
  <Override PartName="/ppt/media/image3.png" ContentType="image/png"/>
  <Override PartName="/ppt/media/image30.pct" ContentType="image/x-pict"/>
  <Override PartName="/ppt/media/image28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2.png" ContentType="image/png"/>
  <Override PartName="/ppt/media/image25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3.jpeg" ContentType="image/jpeg"/>
  <Override PartName="/ppt/media/image12.png" ContentType="image/png"/>
  <Override PartName="/ppt/media/image20.jpeg" ContentType="image/jpeg"/>
  <Override PartName="/ppt/media/image19.png" ContentType="image/png"/>
  <Override PartName="/ppt/media/image21.jpeg" ContentType="image/jpeg"/>
  <Override PartName="/ppt/media/image22.png" ContentType="image/pn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25D50-8736-4A61-9690-CF877FD1EE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380A5-4F74-4225-BEF8-2C4BB8BEC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740FC-01BB-4ED6-B745-5623DF4FE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72055-4BC2-49AB-BF13-080E4BDC2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79944-6B40-4CF4-8B77-E97909ECE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53881-930E-46B2-BDFF-3B4BAE0D9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6B881-EBD3-48D8-A5E1-25662AAFD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11BD0-2DB3-495F-8B3A-75706F259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5D4FD-4930-4686-BB08-A14439A8A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0CB38-4682-4D23-B168-55E79CFDE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04C08-4F9E-43DE-AA8D-C75267E0B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82A65-1122-43B1-B347-2264C62C2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D0DE1-419F-4814-B1C0-26D4D32B0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8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283E0-68DA-48DD-9612-6A669D9755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pct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pct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30.pct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pct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30.pct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13.png"/><Relationship Id="rId13" Type="http://schemas.openxmlformats.org/officeDocument/2006/relationships/image" Target="../media/image14.png"/><Relationship Id="rId14" Type="http://schemas.openxmlformats.org/officeDocument/2006/relationships/image" Target="../media/image15.png"/><Relationship Id="rId15" Type="http://schemas.openxmlformats.org/officeDocument/2006/relationships/image" Target="../media/image16.png"/><Relationship Id="rId16" Type="http://schemas.openxmlformats.org/officeDocument/2006/relationships/image" Target="../media/image17.png"/><Relationship Id="rId17" Type="http://schemas.openxmlformats.org/officeDocument/2006/relationships/image" Target="../media/image18.png"/><Relationship Id="rId18" Type="http://schemas.openxmlformats.org/officeDocument/2006/relationships/image" Target="../media/image19.png"/><Relationship Id="rId19" Type="http://schemas.openxmlformats.org/officeDocument/2006/relationships/image" Target="../media/image20.jpeg"/><Relationship Id="rId20" Type="http://schemas.openxmlformats.org/officeDocument/2006/relationships/image" Target="../media/image21.jpeg"/><Relationship Id="rId21" Type="http://schemas.openxmlformats.org/officeDocument/2006/relationships/image" Target="../media/image22.png"/><Relationship Id="rId2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8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5587920"/>
            <a:ext cx="9144000" cy="12700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ational Center for Biomedical Ont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nford – Berkeley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yo – Victoria – Buffal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CSF – Oregon – Cambri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bioontology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966960" y="128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8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nded in September 2005 to provide a national focus on the use of ontologies in the biomedical sci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onsortium that brings together investigators 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nford University (Ontology-management technolog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wrence Berkeley Labs (Use of ontologies for data annot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of Victoria (Ontology and data visualiz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yo Clinic (Access to controlled clinical terminologi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NY Buffalo (Best practices for ontology developme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r goal: Industrial-strength technology for use of ontologies in e-sc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685800" y="641520"/>
            <a:ext cx="7772400" cy="107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8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117440" y="1716120"/>
            <a:ext cx="2895840" cy="1828800"/>
          </a:xfrm>
          <a:prstGeom prst="ellipse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Light"/>
              </a:rPr>
              <a:t>Open Biomedical Ontolo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Light"/>
              </a:rPr>
              <a:t>(OB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130720" y="1716120"/>
            <a:ext cx="2895840" cy="1828800"/>
          </a:xfrm>
          <a:prstGeom prst="ellipse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Light"/>
              </a:rPr>
              <a:t>Open Biomedical Data (OB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159000" y="3881520"/>
            <a:ext cx="2820960" cy="1828800"/>
          </a:xfrm>
          <a:prstGeom prst="ellipse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Light"/>
              </a:rPr>
              <a:t>BioPor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204280" y="1012680"/>
            <a:ext cx="473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Capture and index experimental res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85800" y="3962520"/>
            <a:ext cx="182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Revise biomedical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understan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705720" y="4038480"/>
            <a:ext cx="1981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Gothic"/>
              </a:rPr>
              <a:t>Relate experimental data to results from other 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17880" y="0"/>
            <a:ext cx="845604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National Center for Biomedical Ont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1" name=""/>
          <p:cNvCxnSpPr>
            <a:stCxn id="105" idx="4"/>
            <a:endCxn id="106" idx="6"/>
          </p:cNvCxnSpPr>
          <p:nvPr/>
        </p:nvCxnSpPr>
        <p:spPr>
          <a:xfrm rot="5400000">
            <a:off x="5667480" y="3884760"/>
            <a:ext cx="1236960" cy="585000"/>
          </a:xfrm>
          <a:prstGeom prst="curvedConnector2">
            <a:avLst/>
          </a:prstGeom>
          <a:ln w="76320">
            <a:solidFill>
              <a:srgbClr val="c0ff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2" name=""/>
          <p:cNvCxnSpPr>
            <a:stCxn id="105" idx="1"/>
            <a:endCxn id="104" idx="7"/>
          </p:cNvCxnSpPr>
          <p:nvPr/>
        </p:nvCxnSpPr>
        <p:spPr>
          <a:xfrm rot="5400000">
            <a:off x="4570560" y="987120"/>
            <a:ext cx="2520" cy="1966320"/>
          </a:xfrm>
          <a:prstGeom prst="curvedConnector5">
            <a:avLst>
              <a:gd name="adj1" fmla="val -30400000"/>
              <a:gd name="adj2" fmla="val 49990"/>
              <a:gd name="adj3" fmla="val -30400000"/>
            </a:avLst>
          </a:prstGeom>
          <a:ln w="76320">
            <a:solidFill>
              <a:srgbClr val="c0ff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3" name=""/>
          <p:cNvCxnSpPr>
            <a:stCxn id="104" idx="4"/>
            <a:endCxn id="106" idx="2"/>
          </p:cNvCxnSpPr>
          <p:nvPr/>
        </p:nvCxnSpPr>
        <p:spPr>
          <a:xfrm flipH="1" rot="16200000">
            <a:off x="2237040" y="3886920"/>
            <a:ext cx="1236960" cy="580320"/>
          </a:xfrm>
          <a:prstGeom prst="curvedConnector2">
            <a:avLst/>
          </a:prstGeom>
          <a:ln w="76320">
            <a:solidFill>
              <a:srgbClr val="c0ff00"/>
            </a:solidFill>
            <a:miter/>
            <a:headEnd len="med" type="triangle" w="med"/>
            <a:tailEnd len="med" type="triangle" w="med"/>
          </a:ln>
        </p:spPr>
      </p:cxn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380880" y="838080"/>
            <a:ext cx="1371600" cy="77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8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-science needs technolog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help build and extend ontolog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locate ontologies and to relate them to one ano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visualize relationships and to aid understan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facilitate evaluation and annotation of ontolog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8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oals for the National Cente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r Biomedical Ontolog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grated ontology libraries in cyber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-data standards for ontology anno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methods for ontology indexing and retriev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y-to-use portals for ontology access, annotation, and pe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-user platforms for putting ontologies to use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anno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cision sup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tural-language process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ormation retriev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applications that we have not yet thought of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77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8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609480" y="304920"/>
            <a:ext cx="7772400" cy="1079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1" name=""/>
          <p:cNvGraphicFramePr/>
          <p:nvPr/>
        </p:nvGraphicFramePr>
        <p:xfrm>
          <a:off x="1752480" y="1447920"/>
          <a:ext cx="5334120" cy="53337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52480" y="1447920"/>
                    <a:ext cx="5334120" cy="533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8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portunities to collaborate with the Cen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he Center’s 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ibuting ontologies to the OBO libr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mitting a proposal to the NIH for a “collaborating R01” gr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ng a biological driving projec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7772400" y="6083280"/>
            <a:ext cx="1371600" cy="77472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154800" y="6248520"/>
            <a:ext cx="377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bioontology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8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609480" y="304920"/>
            <a:ext cx="7772400" cy="1079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8" name=""/>
          <p:cNvGraphicFramePr/>
          <p:nvPr/>
        </p:nvGraphicFramePr>
        <p:xfrm>
          <a:off x="1752480" y="1447920"/>
          <a:ext cx="5334120" cy="53337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52480" y="1447920"/>
                    <a:ext cx="5334120" cy="533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8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 flipV="1">
            <a:off x="5105520" y="1676160"/>
            <a:ext cx="1523880" cy="152388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952880" y="2514600"/>
            <a:ext cx="533520" cy="53352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 flipV="1">
            <a:off x="3809880" y="1371240"/>
            <a:ext cx="609840" cy="152388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3428640" y="2209320"/>
            <a:ext cx="685800" cy="83844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2133720" y="685440"/>
            <a:ext cx="1828800" cy="251460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 flipV="1">
            <a:off x="2057400" y="1752120"/>
            <a:ext cx="1905120" cy="167652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3505320" y="3733920"/>
            <a:ext cx="38088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1981080" y="2819520"/>
            <a:ext cx="1905120" cy="83808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1981080" y="3733920"/>
            <a:ext cx="1905120" cy="30456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048120" y="4191120"/>
            <a:ext cx="914400" cy="45720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1066680" y="4952880"/>
            <a:ext cx="609840" cy="38124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2438280" y="5334120"/>
            <a:ext cx="76320" cy="53316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4419360" y="4267080"/>
            <a:ext cx="75960" cy="53352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76920" y="4267080"/>
            <a:ext cx="838080" cy="106704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105520" y="4191120"/>
            <a:ext cx="2286000" cy="68580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181480" y="3809880"/>
            <a:ext cx="914400" cy="15264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5105520" y="3200040"/>
            <a:ext cx="1828800" cy="15228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5181480" y="2437920"/>
            <a:ext cx="2210040" cy="83844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429000" y="5410080"/>
            <a:ext cx="1300320" cy="12016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1066680" y="1143000"/>
            <a:ext cx="1235160" cy="6174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7162920" y="3809880"/>
            <a:ext cx="1981080" cy="115596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2743200" y="868320"/>
            <a:ext cx="1943280" cy="5032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5"/>
          <a:stretch/>
        </p:blipFill>
        <p:spPr>
          <a:xfrm>
            <a:off x="1752480" y="4495680"/>
            <a:ext cx="1292400" cy="8575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6"/>
          <a:stretch/>
        </p:blipFill>
        <p:spPr>
          <a:xfrm>
            <a:off x="6858000" y="2941560"/>
            <a:ext cx="1646280" cy="6397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7"/>
          <a:stretch/>
        </p:blipFill>
        <p:spPr>
          <a:xfrm>
            <a:off x="5181480" y="6172200"/>
            <a:ext cx="1714680" cy="42228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8"/>
          <a:stretch/>
        </p:blipFill>
        <p:spPr>
          <a:xfrm>
            <a:off x="533520" y="2057400"/>
            <a:ext cx="1382760" cy="80028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9"/>
          <a:stretch/>
        </p:blipFill>
        <p:spPr>
          <a:xfrm>
            <a:off x="5867280" y="1219320"/>
            <a:ext cx="1782720" cy="4222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10"/>
          <a:stretch/>
        </p:blipFill>
        <p:spPr>
          <a:xfrm>
            <a:off x="457200" y="3276720"/>
            <a:ext cx="1523880" cy="61596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11"/>
          <a:stretch/>
        </p:blipFill>
        <p:spPr>
          <a:xfrm>
            <a:off x="5410080" y="5410080"/>
            <a:ext cx="3429000" cy="50328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12"/>
          <a:stretch/>
        </p:blipFill>
        <p:spPr>
          <a:xfrm>
            <a:off x="2514600" y="1639800"/>
            <a:ext cx="1143000" cy="7225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13"/>
          <a:stretch/>
        </p:blipFill>
        <p:spPr>
          <a:xfrm>
            <a:off x="3581280" y="4800600"/>
            <a:ext cx="1447920" cy="60336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14"/>
          <a:stretch/>
        </p:blipFill>
        <p:spPr>
          <a:xfrm>
            <a:off x="7086600" y="1676520"/>
            <a:ext cx="1771560" cy="9936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15"/>
          <a:stretch/>
        </p:blipFill>
        <p:spPr>
          <a:xfrm>
            <a:off x="5867280" y="3581280"/>
            <a:ext cx="879480" cy="10288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16"/>
          <a:stretch/>
        </p:blipFill>
        <p:spPr>
          <a:xfrm>
            <a:off x="4495680" y="1828800"/>
            <a:ext cx="2286000" cy="6634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17"/>
          <a:stretch/>
        </p:blipFill>
        <p:spPr>
          <a:xfrm>
            <a:off x="152280" y="133200"/>
            <a:ext cx="3051360" cy="6289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18"/>
          <a:stretch/>
        </p:blipFill>
        <p:spPr>
          <a:xfrm>
            <a:off x="2514600" y="2819520"/>
            <a:ext cx="914400" cy="11430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19"/>
          <a:stretch/>
        </p:blipFill>
        <p:spPr>
          <a:xfrm>
            <a:off x="76320" y="5370480"/>
            <a:ext cx="1981080" cy="4968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0"/>
          <a:stretch/>
        </p:blipFill>
        <p:spPr>
          <a:xfrm>
            <a:off x="1447920" y="5892840"/>
            <a:ext cx="1218960" cy="81288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3277440" y="-49320"/>
            <a:ext cx="5517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Ontologies are essential to </a:t>
            </a:r>
            <a:br>
              <a:rPr sz="2800"/>
            </a:b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make sense of biomedical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1"/>
          <a:stretch/>
        </p:blipFill>
        <p:spPr>
          <a:xfrm>
            <a:off x="3505320" y="3048120"/>
            <a:ext cx="23619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8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ologist have adopted ontolog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provide canonical representation of scientific knowled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annotate experimental data to enable interpretation and comparison across datab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facilitate knowledge-based applications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ision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tural language-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integ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8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143000" y="757080"/>
            <a:ext cx="7315200" cy="572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8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1284120"/>
            <a:ext cx="9144000" cy="557388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Portion of the OBO Libr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8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11280" y="893880"/>
            <a:ext cx="7924680" cy="50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8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Knowledge workers seem trapped in a pre-industrial ag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ontologies are of relatively small sc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ontologies are built and refined by small groups working arduously in iso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ccess rests heavily on the particular talents of individual artisans, rather than on standard operating procedur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is an urgent need for technologies to make this process “faster, better, cheape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8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609480" y="838080"/>
            <a:ext cx="8001000" cy="50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8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94760" cy="714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1T17:04:53Z</dcterms:created>
  <dc:creator>Mark Musen</dc:creator>
  <dc:description/>
  <dc:language>en-US</dc:language>
  <cp:lastModifiedBy>SMI</cp:lastModifiedBy>
  <dcterms:modified xsi:type="dcterms:W3CDTF">2006-02-13T10:49:32Z</dcterms:modified>
  <cp:revision>55</cp:revision>
  <dc:subject/>
  <dc:title>The End of a Cottage Industry: The coming industrial revolution for biomedical ontologies</dc:title>
</cp:coreProperties>
</file>